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D408-A0A8-4B98-8C6B-B2D969920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52F5-D14E-4447-9AA1-5E0449F9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5E94-8FE4-4835-8E1E-22822E6E7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7B4D-55CB-4A9E-A792-FFFE8A4C9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7EB1-C90A-4205-AED4-0510E3B5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B5C2-5F13-4FFA-A182-9FC4158B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0063-D588-4066-BD32-1A172391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0201-7A73-44DB-A5A7-237B59AA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721F-0E46-4657-B66B-88F39A8F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646A-ABF1-4044-B138-D53618C4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F104-C2F8-4D03-8272-4C2C133E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7CD5-EE1C-454E-AD75-95BF8957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6015-B49E-4A37-B5D6-AE9406B51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997000" cy="3504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29000" y="76320"/>
            <a:ext cx="5181480" cy="43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auhaus 93"/>
              </a:rPr>
              <a:t>Lektion 2</a:t>
            </a:r>
            <a:r>
              <a:rPr b="1" lang="en-US" sz="2400" spc="-1" strike="noStrike">
                <a:solidFill>
                  <a:srgbClr val="cc3399"/>
                </a:solidFill>
                <a:latin typeface="Bauhaus 93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Bauhaus 93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1.  Match the pictures and greetings.  What is the pirate captain’s nam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2.  What are they saying?  Write it in the speech bubb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3.  What are they saying?  Write it dow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4.  Solve the letter puzzle.  Write the dialogue in your noteboo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5.  Put a check in the appropriate answer and then write the sentences in your notes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6.  Play the dice game working in pairs or in small groups.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ier abknicken – cut her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7.  What words are missing? Fill in the blanks.  Then create your own dialogues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962520"/>
            <a:ext cx="8686800" cy="26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8.  Write questions and answers following the exampl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9.  Write dialogues like in the examp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1.  Which words from the list correspon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2.  What are the correct words?  Write them under the appropriate pictu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3.  What would you say?  Write it down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4.  Write the appropriate words from the list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15000" y="563868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Arial"/>
              </a:rPr>
              <a:t>*Ü = Übung, which means exercise, not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8:27:52Z</dcterms:created>
  <dc:creator>udsd</dc:creator>
  <dc:description/>
  <dc:language>en-US</dc:language>
  <cp:lastModifiedBy>Hart</cp:lastModifiedBy>
  <dcterms:modified xsi:type="dcterms:W3CDTF">2009-09-29T19:56:29Z</dcterms:modified>
  <cp:revision>6</cp:revision>
  <dc:subject/>
  <dc:title>Slide 1</dc:title>
</cp:coreProperties>
</file>